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5.jpeg" ContentType="image/jpeg"/>
  <Override PartName="/ppt/media/image11.jpeg" ContentType="image/jpeg"/>
  <Override PartName="/ppt/media/image12.wmf" ContentType="image/x-wmf"/>
  <Override PartName="/ppt/media/image4.png" ContentType="image/png"/>
  <Override PartName="/ppt/media/image13.wmf" ContentType="image/x-wmf"/>
  <Override PartName="/ppt/media/image8.jpeg" ContentType="image/jpe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9880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9880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79204C-38A1-4B70-A5CC-7F98A415F65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alaxy workflow environment provides access to several analysis, mapping and alignment too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arses Galaxy tool configuration files that describe the interface to a tool – the parameters and input data it can take, their types and restrictions, and the outputs it produces – in an abstract way that is not specific to any particular user interf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tored as files on disk) and “metadata” (data about datasets, tools, and their relationships; stored in a relational databas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rovides support for job queuing, to allow multiple users to each submit multiple jobs to a Galaxy instance and receive a fair execution ord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A6CEF-08D2-4AE3-8CAD-977A63B36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14845-09A3-4B24-9DA8-C043BBFA0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C5B6D-DD58-4B22-B3F3-E18B84405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9A1E7-B351-4382-B7A6-66D36BA95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487C8-36B4-4978-A877-D902DA8B7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EBFEE-DA3C-4A38-9E22-932E4612C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F6C91-B614-4250-A32D-227808C8D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DD847-F8F9-4F18-9CE3-F37C0DA7E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C8C49-2C00-49CB-8D3C-E321EAD65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E4F9F-920B-4282-9FFD-1AAFC6E40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070F5-9B5A-41AC-9608-E67A85940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B2497-8180-4535-9718-708EA7C3A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781FF-A6C5-4E91-8B85-AA0932197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1B6CB-8CE4-48A0-B307-6D1662519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EBADC-E739-4B46-9496-FD5070BC8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A101D-A11A-4D7A-998F-169F1FEDE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24043-DDC6-474F-869D-866A7A2AD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0F2FB-E2F4-4A21-BD60-0A5029A20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0EF3D-2115-4642-994B-AD9C29F8C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291C9-1CE1-46FA-ABE3-72E451415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4E503-FE49-4C83-B2E6-A4B475841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CD2B5-3E84-47A1-A3AC-C8FB9FB91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3D4E0-C4CC-4A44-BB68-8548EBE64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1A8E8-8126-4229-8FC5-565BCB7AB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33928-10A4-4C1B-8DF7-03D137CA2500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5"/>
          <a:stretch/>
        </p:blipFill>
        <p:spPr>
          <a:xfrm>
            <a:off x="685800" y="0"/>
            <a:ext cx="8458200" cy="48096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6"/>
          <a:stretch/>
        </p:blipFill>
        <p:spPr>
          <a:xfrm>
            <a:off x="0" y="-76320"/>
            <a:ext cx="9601200" cy="68580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7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5791320" y="64771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th -14th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32767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06418-8405-47A6-A407-6FC6FF3A1BFF}" type="slidenum">
              <a:rPr b="0" lang="en-US" sz="8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F0E03-2FCC-4837-99FB-8635E8729F5B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85800" y="0"/>
            <a:ext cx="8458200" cy="468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410080" y="655308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-14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harikrishnam@cdacb.ernet.in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15998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2400"/>
                </a:solidFill>
                <a:latin typeface="Times New Roman"/>
              </a:rPr>
              <a:t>Python based Galaxy workflow integration on GARUDA Grid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62120" y="3200040"/>
            <a:ext cx="76960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Karuna,  Harikrishna M,  Mangala N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Janaki Ch,  Shashi S,  Dr. Subrata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87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Centre for Development of Advanced Computing (C-DAC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Knowledge Park Centre, Old Madras R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Bangal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3300"/>
                </a:solidFill>
                <a:uFillTx/>
                <a:latin typeface="Times New Roman"/>
                <a:ea typeface="Arial"/>
                <a:hlinkClick r:id="rId1"/>
              </a:rPr>
              <a:t>harikrishnam@cdacb.ernet.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1CB15-2D35-48FA-814B-FA572151991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763120" cy="33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been deployed on GARUDA Grid Headnode and can be accessed by the us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Grid Headnode is connected to several compute cluster resourc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the Grid Headnode Gridway meta-scheduler is present which interacts with LRMs on each of the clusters’ headnod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ion of a  tool (or workflow) from Galaxy happens based on the load scheduling by Gridwa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a job manager component which interfaces with various tools’ parameters for execut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3886200" y="3505320"/>
            <a:ext cx="4724280" cy="30477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952880" y="3809880"/>
            <a:ext cx="1219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ALAX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ridw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3EB85-FF20-4168-97CA-9B2481750A0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80880" y="1143000"/>
            <a:ext cx="41148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tracting the tools paramete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ap in shell scri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ntifies files to be staged in at headnode and described in the job template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ed at the headenode scheduled by the grid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put files staged out at the submit 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pture the result and display it in galaxy fronte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029200" y="838080"/>
            <a:ext cx="37339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7"/>
          <a:stretch/>
        </p:blipFill>
        <p:spPr>
          <a:xfrm>
            <a:off x="5715000" y="1219320"/>
            <a:ext cx="2741760" cy="4113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47357-C535-4DF1-9205-91827CFC4DA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320" y="-763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019cb"/>
                </a:solidFill>
                <a:latin typeface="Times New Roman"/>
              </a:rPr>
              <a:t>Snapshot of Galaxy workflow invoking sequence length tool</a:t>
            </a: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925040" cy="594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88956-7ED3-4537-AC66-772D2235520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4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284960" cy="4113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A6BE5-A4F1-4169-A884-53298D77572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laxy has been designed in a modular fashion making it easy to integrate with different schedulers and making any feature enhance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web based tool deployed on the grid headnode is accessible via a browser from individual researchers’ deskto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ython is a powerful, easy to read and understand language which makes customizing and extending the GALAXY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implementation was specifically done for the Gridway but can be extended to support other types of grid system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539EB-3D32-4D76-A49B-6509573E411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-228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19cb"/>
                </a:solidFill>
                <a:latin typeface="Times New Roman"/>
              </a:rPr>
              <a:t>Snapshot of job execution in Galaxy workflow using Gridway</a:t>
            </a:r>
            <a:endParaRPr b="0" lang="en-US" sz="2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391520" cy="5543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01D8C-03E6-47F4-828C-A8DFA554CEE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Ram, N., Ramakrishnan, S. "GARUDA: India's National Grid Computing Initiative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"  CTWatch Quarterl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(1), February 20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alaxy: a comprehensive approach for supporting accessible, reproducible, and transparent computational research in the life sciences, Goecks et al. Genome Biology 2010, 11:R8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ahlada Rao B.B, Ramakrishnan S, RajaGopalan M.R , Dr Subrata C, Mangala N, Sridharan R., "e-infrastructures in IT: A Case study on Indian National Grid Computing Initiative-GARUDA" , Special ed. of Springer's journal on "Computer Science- Research and Development", Vol 23, Issue 3 - 4, pp 283 - 290, June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Sukeshini, K Kalaiselvan, P Vallinayagam, MS VijayaNagamani, N Mangala,Prahlada Rao BB and Mohan Ram, “Integrated Development Environment for GARUDA Grid (G-IDE)”,  In eScience and Grid Computing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Proceedings of 3rd IEEE International Conferenc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007, 499-5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an Foster and Carl Kesselman, “The Grid 2: Blueprint for a New Computing Infrastructure”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lsevier Series in Grid Compu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neeth Simon Arackal, Arunachalam B, Bijoy M B, Prahlada Rao B B, Kalasagar B, Sridharan R, Subrata Chattopadhyay. An Access Mechanism for Grid GARUDA , IEEE IMSAA –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nirban Chakrabarti, Shubhashis Sengupta, Adarsh Upadhyay, Anish Damodaran, “A Systematic Approach for Application Migration in a Grid Computing Environment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”,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sia-Pacific Conference on Services Comput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. 2006 IEEE Proceedings:512 – 519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2470A-077B-494E-8FAA-A3ABA566108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33720" y="320040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Thank Y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B79C2-10B7-4951-91FD-AE1597BEDF1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15228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Outlin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oinformatics applications on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ruda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DF17F-17C8-4CBE-BB32-DF366CBC8D2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920" y="68580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informatics aims to increase the understanding of biological process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ommon activities in bioinformatics includ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mapping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analyzing DNA and protein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aligning different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compare them and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reating and viewing model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of protein struc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logical processes ar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omplex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E.g. problems in statistical genetics are computationally demanding / work with large public datase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everal specialized applications and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public domain databas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are in use toda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igh-throughput experimental technologies and publicly accessible databases hav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increased the amount of data available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experimental biologis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ence there is a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strong demand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for softwar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tools supporting information integration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in such a way that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multitude of application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can be used in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single experiment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Bioinformatic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8C81F-A077-43E1-949B-F111C4D8433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419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Easy-to-use, open-source, scalable framework which can be used for tool and data integratio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Provides an environment for interactive analysis, a workflow system for convenient reuse, data management and sharing of result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Allows interactive analysis which transparently tracks the details of analys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Drag and drop of components for making the workflow, access based control and history based analysi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Takes data from the externally available public domain databas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6"/>
          <a:srcRect l="2680" t="4312" r="2680" b="9230"/>
          <a:stretch/>
        </p:blipFill>
        <p:spPr>
          <a:xfrm>
            <a:off x="4800600" y="1295280"/>
            <a:ext cx="434340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EF55F-0085-42A0-9C52-07B97F6817F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Architectur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ore components of the Galaxy Framework ar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anages all of the details of working with command-line and web-based computational tool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eals with the details of executing tools. It manages dependencies between jobs (invocations of tools) to ensure that required datasets have been produced without errors before a job is ru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an abstract interface for working with datasets. It provides an object-oriented interface for working with dataset cont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support for interacting with a Galaxy instance through a web browser. It generates web-based interfaces to the toolbox (for browsing and choosing tools), individual tools (building forms to accept and validate user input to a tool), and the model (allowing the user to work with all of the datasets they have produced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08D44-44E7-4E2F-B273-BED9441179F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922320" y="914400"/>
            <a:ext cx="7078680" cy="530856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0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2069F-7944-4BD1-87EC-BB0BC59447D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URDA Grid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1920" y="837720"/>
            <a:ext cx="4800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Resour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compute clusters, storage and scientific instruments. Nearly 6000 cpus (~ 70TF of compute power) and about 17TB of storage has been aggregated on Garu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Networ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The National Knowledge Network (NKN) backbone, a Pan-Indian communication fabric to provide seamless and high-speed access to resources. NKN is an initiative by the Ministry of Information Technology, Government of India, to provide ultra high speed connectivity across the entire country. Academic institutes and R&amp;D organizations can leverage this network for their applications. NKN currently supports 1Gbps and shall scale upto 10Gbp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20592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RUDA Grid </a:t>
            </a: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middleware stack, tools and servi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which provide an integrated infrastructure to applications and higher-level lay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502236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4952880" y="990720"/>
            <a:ext cx="4505400" cy="5029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FB0F9-F7E0-413C-AF19-1B62CAD4C04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RUDA Middleware Architecture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362320" y="1600200"/>
            <a:ext cx="4762440" cy="33624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57200" y="251892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aryavekshan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3230640"/>
            <a:ext cx="190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orage Resource Manager (G-SR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143000" y="4582440"/>
            <a:ext cx="205740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lobus 4.0.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w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orque, Loadleve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4953240"/>
            <a:ext cx="2209680" cy="11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ute, Data, Storage, Scientific Instru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248520" y="4495320"/>
            <a:ext cx="19047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 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hra debug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2590920"/>
            <a:ext cx="1905120" cy="14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ideo Coneferencing, Access Gr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orkflo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238880" y="189828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95880" y="914040"/>
            <a:ext cx="22100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ioinforma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isaster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025F5-67ED-4945-8C42-C0EAB6A322F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Galaxy framework is implemented in the Python programming langu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is concise and easy to write, it is also a highly structured language that is generally easy to read and underst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ly, Python has a very powerful standard library, as well as a variety of third party open source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key benefit realized for Galaxy by using Python is that it makes it highly customizable and easily extend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12202-BD7C-41C9-BE63-B53174BF575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5T05:45:38Z</dcterms:created>
  <dc:creator>mangala</dc:creator>
  <dc:description/>
  <dc:language>en-US</dc:language>
  <cp:lastModifiedBy>Karuna Parsad</cp:lastModifiedBy>
  <dcterms:modified xsi:type="dcterms:W3CDTF">2010-12-11T11:35:36Z</dcterms:modified>
  <cp:revision>813</cp:revision>
  <dc:subject/>
  <dc:title>Distributed Genetic Algorithms on Grid for Protein Structure Prediction </dc:title>
</cp:coreProperties>
</file>