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6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5.jpeg" ContentType="image/jpeg"/>
  <Override PartName="/ppt/media/image11.jpeg" ContentType="image/jpeg"/>
  <Override PartName="/ppt/media/image12.wmf" ContentType="image/x-wmf"/>
  <Override PartName="/ppt/media/image4.png" ContentType="image/png"/>
  <Override PartName="/ppt/media/image13.wmf" ContentType="image/x-wmf"/>
  <Override PartName="/ppt/media/image8.jpeg" ContentType="image/jpeg"/>
  <Override PartName="/ppt/media/image7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9144000" cy="6858000"/>
  <p:notesSz cx="68834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0" y="0"/>
            <a:ext cx="6883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dt" idx="7"/>
          </p:nvPr>
        </p:nvSpPr>
        <p:spPr>
          <a:xfrm>
            <a:off x="3898800" y="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 type="ftr" idx="8"/>
          </p:nvPr>
        </p:nvSpPr>
        <p:spPr>
          <a:xfrm>
            <a:off x="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6"/>
          <p:cNvSpPr>
            <a:spLocks noGrp="1"/>
          </p:cNvSpPr>
          <p:nvPr>
            <p:ph type="sldNum" idx="9"/>
          </p:nvPr>
        </p:nvSpPr>
        <p:spPr>
          <a:xfrm>
            <a:off x="3898800" y="8831160"/>
            <a:ext cx="2982960" cy="46512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b">
            <a:noAutofit/>
          </a:bodyPr>
          <a:lstStyle>
            <a:lvl1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  <a:defRPr b="0" lang="en-US" sz="13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66960"/>
                <a:tab algn="l" pos="1933560"/>
                <a:tab algn="l" pos="2900520"/>
                <a:tab algn="l" pos="3867120"/>
                <a:tab algn="l" pos="4834080"/>
                <a:tab algn="l" pos="5800680"/>
                <a:tab algn="l" pos="6767640"/>
                <a:tab algn="l" pos="7734240"/>
                <a:tab algn="l" pos="8701200"/>
                <a:tab algn="l" pos="9667800"/>
                <a:tab algn="l" pos="10634760"/>
              </a:tabLst>
            </a:pPr>
            <a:fld id="{9647820E-1D4E-4E51-8A03-492A3B9C4676}" type="slidenum">
              <a:rPr b="0" lang="en-US" sz="13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Galaxy workflow environment provides access to several analysis, mapping and alignment tools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sldImg"/>
          </p:nvPr>
        </p:nvSpPr>
        <p:spPr>
          <a:xfrm>
            <a:off x="1117440" y="698400"/>
            <a:ext cx="4646880" cy="3484800"/>
          </a:xfrm>
          <a:prstGeom prst="rect">
            <a:avLst/>
          </a:prstGeom>
          <a:ln w="0">
            <a:noFill/>
          </a:ln>
        </p:spPr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917640" y="4416120"/>
            <a:ext cx="5046480" cy="4181400"/>
          </a:xfrm>
          <a:prstGeom prst="rect">
            <a:avLst/>
          </a:prstGeom>
          <a:noFill/>
          <a:ln w="0">
            <a:noFill/>
          </a:ln>
        </p:spPr>
        <p:txBody>
          <a:bodyPr lIns="96840" rIns="96840" tIns="48240" bIns="482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arses Galaxy tool configuration files that describe the interface to a tool – the parameters and input data it can take, their types and restrictions, and the outputs it produces – in an abstract way that is not specific to any particular user interfac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stored as files on disk) and “metadata” (data about datasets, tools, and their relationships; stored in a relational database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provides support for job queuing, to allow multiple users to each submit multiple jobs to a Galaxy instance and receive a fair execution orde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8BE46-B0EA-4534-B6D1-71BA6A8D4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70EE8-698E-4473-86AF-D139BECC38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A1699-9EEC-4F1A-A313-9CD2251A0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2180-54F3-4730-82F6-69B862C49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82C95-D136-4F8E-8312-7357BAEB18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2E1672-1E38-4C7F-B2F0-F5CB3A049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DA61F-458E-47C6-8F22-944C3942C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11050-CB0E-4FB9-B29C-0543CFDDD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53B428-127C-4B98-AE61-47CF50EA2B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8AEBC-25FA-4427-AEFD-84DDC7B0FF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07E754-4276-43F7-99D9-BC5E4739F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67A9A-18C2-4018-8447-36323B452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80CB5-7EEF-44EF-89B3-13A20D34F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277B73-4FB9-4AE1-8339-6DBB2C4FFF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A99DB5-C664-472C-A287-2F8E9DF16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28F74-A5A6-45C0-A831-665F5497B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368820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6315120" y="176688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106164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6"/>
          <p:cNvSpPr>
            <a:spLocks noGrp="1"/>
          </p:cNvSpPr>
          <p:nvPr>
            <p:ph/>
          </p:nvPr>
        </p:nvSpPr>
        <p:spPr>
          <a:xfrm>
            <a:off x="368820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7"/>
          <p:cNvSpPr>
            <a:spLocks noGrp="1"/>
          </p:cNvSpPr>
          <p:nvPr>
            <p:ph/>
          </p:nvPr>
        </p:nvSpPr>
        <p:spPr>
          <a:xfrm>
            <a:off x="6315120" y="3915720"/>
            <a:ext cx="250128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F70EB3-3DCF-4EE8-BB5C-5A3CF026B2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AC394-0E74-466E-9C83-423C1B29A3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D9D4-1EE7-47CF-8E6B-A7084D0061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7DE19-4A56-4BA8-8524-9B59D0651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106668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4B127-6AB6-4670-8287-C6FF152AAB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7E3F8-F977-4B20-B9C7-5CE9E73AA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5042880" y="391572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D624-AE6D-4ADF-85E4-CF2E1A8722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06164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042880" y="1766880"/>
            <a:ext cx="3791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1061640" y="3915720"/>
            <a:ext cx="77691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A24D0-5339-4092-B50A-56F5FC513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jpeg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<Relationship Id="rId9" Type="http://schemas.openxmlformats.org/officeDocument/2006/relationships/slideLayout" Target="../slideLayouts/slideLayout2.xml"/><Relationship Id="rId10" Type="http://schemas.openxmlformats.org/officeDocument/2006/relationships/slideLayout" Target="../slideLayouts/slideLayout3.xml"/><Relationship Id="rId11" Type="http://schemas.openxmlformats.org/officeDocument/2006/relationships/slideLayout" Target="../slideLayouts/slideLayout4.xml"/><Relationship Id="rId12" Type="http://schemas.openxmlformats.org/officeDocument/2006/relationships/slideLayout" Target="../slideLayouts/slideLayout5.xml"/><Relationship Id="rId13" Type="http://schemas.openxmlformats.org/officeDocument/2006/relationships/slideLayout" Target="../slideLayouts/slideLayout6.xml"/><Relationship Id="rId14" Type="http://schemas.openxmlformats.org/officeDocument/2006/relationships/slideLayout" Target="../slideLayouts/slideLayout7.xml"/><Relationship Id="rId15" Type="http://schemas.openxmlformats.org/officeDocument/2006/relationships/slideLayout" Target="../slideLayouts/slideLayout8.xml"/><Relationship Id="rId16" Type="http://schemas.openxmlformats.org/officeDocument/2006/relationships/slideLayout" Target="../slideLayouts/slideLayout9.xml"/><Relationship Id="rId17" Type="http://schemas.openxmlformats.org/officeDocument/2006/relationships/slideLayout" Target="../slideLayouts/slideLayout10.xml"/><Relationship Id="rId18" Type="http://schemas.openxmlformats.org/officeDocument/2006/relationships/slideLayout" Target="../slideLayouts/slideLayout11.xml"/><Relationship Id="rId19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4.pn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8380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42864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D3AD0-EB8A-430D-9F24-955A3604C438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1066680" y="1574640"/>
            <a:ext cx="7772400" cy="1303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1061640" y="1766880"/>
            <a:ext cx="77691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5"/>
          <a:stretch/>
        </p:blipFill>
        <p:spPr>
          <a:xfrm>
            <a:off x="685800" y="0"/>
            <a:ext cx="8458200" cy="480960"/>
          </a:xfrm>
          <a:prstGeom prst="rect">
            <a:avLst/>
          </a:prstGeom>
          <a:ln w="0">
            <a:noFill/>
          </a:ln>
        </p:spPr>
      </p:pic>
      <p:pic>
        <p:nvPicPr>
          <p:cNvPr id="7" name="" descr=""/>
          <p:cNvPicPr/>
          <p:nvPr/>
        </p:nvPicPr>
        <p:blipFill>
          <a:blip r:embed="rId6"/>
          <a:stretch/>
        </p:blipFill>
        <p:spPr>
          <a:xfrm>
            <a:off x="0" y="-76320"/>
            <a:ext cx="9601200" cy="6858000"/>
          </a:xfrm>
          <a:prstGeom prst="rect">
            <a:avLst/>
          </a:prstGeom>
          <a:ln w="0">
            <a:noFill/>
          </a:ln>
        </p:spPr>
      </p:pic>
      <p:pic>
        <p:nvPicPr>
          <p:cNvPr id="8" name="" descr=""/>
          <p:cNvPicPr/>
          <p:nvPr/>
        </p:nvPicPr>
        <p:blipFill>
          <a:blip r:embed="rId7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9" name=""/>
          <p:cNvSpPr/>
          <p:nvPr/>
        </p:nvSpPr>
        <p:spPr>
          <a:xfrm>
            <a:off x="5791320" y="6477120"/>
            <a:ext cx="3124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th -14th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3276720" y="6400800"/>
            <a:ext cx="19047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 anchorCtr="1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54E210-D584-4EDB-AAC2-D23EB3049D6F}" type="slidenum">
              <a:rPr b="0" lang="en-US" sz="8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8"/>
    <p:sldLayoutId id="2147483650" r:id="rId9"/>
    <p:sldLayoutId id="2147483651" r:id="rId10"/>
    <p:sldLayoutId id="2147483652" r:id="rId11"/>
    <p:sldLayoutId id="2147483653" r:id="rId12"/>
    <p:sldLayoutId id="2147483654" r:id="rId13"/>
    <p:sldLayoutId id="2147483655" r:id="rId14"/>
    <p:sldLayoutId id="2147483656" r:id="rId15"/>
    <p:sldLayoutId id="2147483657" r:id="rId16"/>
    <p:sldLayoutId id="2147483658" r:id="rId17"/>
    <p:sldLayoutId id="2147483659" r:id="rId18"/>
    <p:sldLayoutId id="2147483660" r:id="rId19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752480" y="990360"/>
            <a:ext cx="6400800" cy="251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9144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5049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824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70102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824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7DE3B7-D08A-43FD-A968-058956F24423}" type="slidenum">
              <a:rPr b="0" lang="en-US" sz="1400" spc="-1" strike="noStrike">
                <a:solidFill>
                  <a:srgbClr val="4824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1981080" y="3657600"/>
            <a:ext cx="5715000" cy="95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685800" y="0"/>
            <a:ext cx="8458200" cy="4683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4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5"/>
          <a:stretch/>
        </p:blipFill>
        <p:spPr>
          <a:xfrm>
            <a:off x="8443800" y="50760"/>
            <a:ext cx="649440" cy="49392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410080" y="65530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Galaxy workflow on GARUDA GR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228600" y="6400800"/>
            <a:ext cx="2057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13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-14</a:t>
            </a:r>
            <a:r>
              <a:rPr b="1" lang="en-US" sz="1400" spc="-1" strike="noStrike" baseline="30000">
                <a:solidFill>
                  <a:srgbClr val="ff6600"/>
                </a:solidFill>
                <a:latin typeface="Times New Roman"/>
              </a:rPr>
              <a:t>th</a:t>
            </a:r>
            <a:r>
              <a:rPr b="1" lang="en-US" sz="1400" spc="-1" strike="noStrike">
                <a:solidFill>
                  <a:srgbClr val="ff6600"/>
                </a:solidFill>
                <a:latin typeface="Times New Roman"/>
              </a:rPr>
              <a:t>  December 1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ff"/>
                </a:solidFill>
                <a:latin typeface="Antique Olive"/>
              </a:rPr>
              <a:t>SciPy -201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482400"/>
              </a:buClr>
              <a:buFont typeface="Wingdings" charset="2"/>
              <a:buChar char="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arikrishnam@cdacb.ernet.in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228600" y="1599840"/>
            <a:ext cx="86104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82400"/>
                </a:solidFill>
                <a:latin typeface="Times New Roman"/>
              </a:rPr>
              <a:t>Python based Galaxy workflow integration on GARUDA Grid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762120" y="3200040"/>
            <a:ext cx="7696080" cy="2590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Karuna,  Harikrishna M,  Mangala N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Times New Roman"/>
                <a:ea typeface="MS Mincho"/>
              </a:rPr>
              <a:t>Janaki Ch,  Shashi S,  Dr. Subrata 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187"/>
              </a:spcBef>
              <a:spcAft>
                <a:spcPts val="187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Centre for Development of Advanced Computing (C-DAC)</a:t>
            </a: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Knowledge Park Centre, Old Madras Roa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MS Mincho"/>
              </a:rPr>
              <a:t>Bangalo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993300"/>
                </a:solidFill>
                <a:uFillTx/>
                <a:latin typeface="Times New Roman"/>
                <a:ea typeface="Arial"/>
                <a:hlinkClick r:id="rId1"/>
              </a:rPr>
              <a:t>harikrishnam@cdacb.ernet.i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67370-1801-4FB5-9A5B-04ECCC058F02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80880" y="685800"/>
            <a:ext cx="8763120" cy="333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been deployed on GARUDA Grid Headnode and can be accessed by the user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Grid Headnode is connected to several compute cluster resourc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t the Grid Headnode Gridway meta-scheduler is present which interacts with LRMs on each of the clusters’ headnod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ecution of a  tool (or workflow) from Galaxy happens based on the load scheduling by Gridway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alaxy has a job manager component which interfaces with various tools’ parameters for execution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6"/>
          <a:stretch/>
        </p:blipFill>
        <p:spPr>
          <a:xfrm>
            <a:off x="3886200" y="3505320"/>
            <a:ext cx="4724280" cy="3047760"/>
          </a:xfrm>
          <a:prstGeom prst="rect">
            <a:avLst/>
          </a:prstGeom>
          <a:ln w="0">
            <a:noFill/>
          </a:ln>
        </p:spPr>
      </p:pic>
      <p:sp>
        <p:nvSpPr>
          <p:cNvPr id="136" name=""/>
          <p:cNvSpPr/>
          <p:nvPr/>
        </p:nvSpPr>
        <p:spPr>
          <a:xfrm>
            <a:off x="4952880" y="3809880"/>
            <a:ext cx="121932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ALAX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90033"/>
                </a:solidFill>
                <a:latin typeface="Times New Roman"/>
              </a:rPr>
              <a:t>Gridwa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99FC1-2BB8-4AF8-8A40-CDE2B898A101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/>
          </p:nvPr>
        </p:nvSpPr>
        <p:spPr>
          <a:xfrm>
            <a:off x="380880" y="1143000"/>
            <a:ext cx="411480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xtracting the tools parameter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Wrap in shell scrip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Identifies files to be staged in at headnode and described in the job template fil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xecuted at the headenode scheduled by the gridwa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utput files staged out at the submit nod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374"/>
              </a:spcBef>
              <a:spcAft>
                <a:spcPts val="374"/>
              </a:spcAft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pture the result and display it in galaxy fronten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029200" y="838080"/>
            <a:ext cx="373392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7"/>
          <a:stretch/>
        </p:blipFill>
        <p:spPr>
          <a:xfrm>
            <a:off x="5715000" y="1219320"/>
            <a:ext cx="2741760" cy="4113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7A19E-A640-4684-BE4A-FF7049E0550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76320" y="-7632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019cb"/>
                </a:solidFill>
                <a:latin typeface="Times New Roman"/>
              </a:rPr>
              <a:t>Snapshot of Galaxy workflow invoking sequence length tool</a:t>
            </a:r>
            <a:r>
              <a:rPr b="0" lang="en-US" sz="40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380880" y="457200"/>
            <a:ext cx="7925040" cy="5943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1230E-73FD-4AD3-94E2-BAE0D27F402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4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4" name="" descr=""/>
          <p:cNvPicPr/>
          <p:nvPr/>
        </p:nvPicPr>
        <p:blipFill>
          <a:blip r:embed="rId1"/>
          <a:stretch/>
        </p:blipFill>
        <p:spPr>
          <a:xfrm>
            <a:off x="762120" y="1371600"/>
            <a:ext cx="7284960" cy="4113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20AD9-5EA5-406D-8B4A-027AB16102C5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Galaxy has been designed in a modular fashion making it easy to integrate with different schedulers and making any feature enhancement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web based tool deployed on the grid headnode is accessible via a browser from individual researchers’ desktop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ython is a powerful, easy to read and understand language which makes customizing and extending the GALAXY framewor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implementation was specifically done for the Gridway but can be extended to support other types of grid system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B40E5-DED6-4FEB-907D-4170A9D69A0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228600" y="-228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019cb"/>
                </a:solidFill>
                <a:latin typeface="Times New Roman"/>
              </a:rPr>
              <a:t>Snapshot of job execution in Galaxy workflow using Gridway</a:t>
            </a:r>
            <a:endParaRPr b="0" lang="en-US" sz="20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066680" y="685800"/>
            <a:ext cx="7391520" cy="5543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9C1CB-79DE-4ACC-9A4A-61EC0DCC088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85440" y="990720"/>
            <a:ext cx="845820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Ram, N., Ramakrishnan, S. "GARUDA: India's National Grid Computing Initiative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"  CTWatch Quarterly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(1), February 20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alaxy: a comprehensive approach for supporting accessible, reproducible, and transparent computational research in the life sciences, Goecks et al. Genome Biology 2010, 11:R8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ahlada Rao B.B, Ramakrishnan S, RajaGopalan M.R , Dr Subrata C, Mangala N, Sridharan R., "e-infrastructures in IT: A Case study on Indian National Grid Computing Initiative-GARUDA" , Special ed. of Springer's journal on "Computer Science- Research and Development", Vol 23, Issue 3 - 4, pp 283 - 290, June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Sukeshini, K Kalaiselvan, P Vallinayagam, MS VijayaNagamani, N Mangala,Prahlada Rao BB and Mohan Ram, “Integrated Development Environment for GARUDA Grid (G-IDE)”,  In eScience and Grid Computing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Proceedings of 3rd IEEE International Conference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, 2007, 499-50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an Foster and Carl Kesselman, “The Grid 2: Blueprint for a New Computing Infrastructure”,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he Elsevier Series in Grid Compu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neeth Simon Arackal, Arunachalam B, Bijoy M B, Prahlada Rao B B, Kalasagar B, Sridharan R, Subrata Chattopadhyay. An Access Mechanism for Grid GARUDA , IEEE IMSAA – 2009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lnSpc>
                <a:spcPct val="80000"/>
              </a:lnSpc>
              <a:spcBef>
                <a:spcPts val="400"/>
              </a:spcBef>
              <a:buSzPct val="102837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nirban Chakrabarti, Shubhashis Sengupta, Adarsh Upadhyay, Anish Damodaran, “A Systematic Approach for Application Migration in a Grid Computing Environment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”,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 </a:t>
            </a:r>
            <a:r>
              <a:rPr b="0" i="1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Asia-Pacific Conference on Services Computing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Arial"/>
              </a:rPr>
              <a:t>. 2006 IEEE Proceedings:512 – 519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E6F1-7658-4237-A47C-846068C4CF3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33720" y="3200400"/>
            <a:ext cx="4038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Times New Roman"/>
              </a:rPr>
              <a:t>Thank Yo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B49E7-C9EA-4870-BF76-326A8854EA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152280"/>
            <a:ext cx="777240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Outline</a:t>
            </a:r>
            <a:endParaRPr b="0" lang="en-US" sz="36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62120" y="1143000"/>
            <a:ext cx="80769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informatics applications on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aruda Gr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Galaxy on Garud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72EE5-4A2D-4326-8F14-63122E42AB4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920" y="68580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informatics aims to increase the understanding of biological processe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Common activities in bioinformatics includ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mapping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analyzing DNA and protein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,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aligning different sequenc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compare them and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reating and viewing model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of protein structu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Biological processes are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complex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E.g. problems in statistical genetics are computationally demanding / work with large public datase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Several specialized applications and </a:t>
            </a:r>
            <a:r>
              <a:rPr b="0" lang="en-US" sz="2000" spc="-1" strike="noStrike">
                <a:solidFill>
                  <a:srgbClr val="006600"/>
                </a:solidFill>
                <a:latin typeface="Arial Unicode MS"/>
              </a:rPr>
              <a:t>public domain database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are in use today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igh-throughput experimental technologies and publicly accessible databases hav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increased the amount of data available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to experimental biologists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lnSpc>
                <a:spcPct val="100000"/>
              </a:lnSpc>
              <a:spcBef>
                <a:spcPts val="125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lnSpc>
                <a:spcPct val="100000"/>
              </a:lnSpc>
              <a:spcBef>
                <a:spcPts val="249"/>
              </a:spcBef>
              <a:spcAft>
                <a:spcPts val="249"/>
              </a:spcAft>
              <a:buSzPct val="102792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Hence there is a </a:t>
            </a:r>
            <a:r>
              <a:rPr b="0" lang="en-US" sz="2000" spc="-1" strike="noStrike">
                <a:solidFill>
                  <a:srgbClr val="990033"/>
                </a:solidFill>
                <a:latin typeface="Arial Unicode MS"/>
              </a:rPr>
              <a:t>strong demand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for software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tools supporting information integration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in such a way that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multitude of applications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 can be used in a </a:t>
            </a:r>
            <a:r>
              <a:rPr b="0" lang="en-US" sz="2000" spc="-1" strike="noStrike">
                <a:solidFill>
                  <a:srgbClr val="000099"/>
                </a:solidFill>
                <a:latin typeface="Arial Unicode MS"/>
              </a:rPr>
              <a:t>single experiment</a:t>
            </a:r>
            <a:r>
              <a:rPr b="0" lang="en-US" sz="2000" spc="-1" strike="noStrike">
                <a:solidFill>
                  <a:srgbClr val="000000"/>
                </a:solidFill>
                <a:latin typeface="Arial Unicode MS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6320" y="-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5019cb"/>
                </a:solidFill>
                <a:latin typeface="Times New Roman"/>
              </a:rPr>
              <a:t>Bioinformatics Applica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BC8-E2C6-4FAC-B5C9-8BB08E1E224D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441936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Easy-to-use, open-source, scalable framework which can be used for tool and data integratio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Provides an environment for interactive analysis, a workflow system for convenient reuse, data management and sharing of result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Allows interactive analysis which transparently tracks the details of analyse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Drag and drop of components for making the workflow, access based control and history based analysi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 Unicode MS"/>
              </a:rPr>
              <a:t>Takes data from the externally available public domain databas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6"/>
          <a:srcRect l="2680" t="4312" r="2680" b="9230"/>
          <a:stretch/>
        </p:blipFill>
        <p:spPr>
          <a:xfrm>
            <a:off x="4800600" y="1295280"/>
            <a:ext cx="434340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EB0A7-C191-49A1-B937-0D52C638ACDD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Architectur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533520" y="914040"/>
            <a:ext cx="8610480" cy="518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e core components of the Galaxy Framework are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, and </a:t>
            </a: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toolbox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manages all of the details of working with command-line and web-based computational tools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job manager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deals with the details of executing tools. It manages dependencies between jobs (invocations of tools) to ensure that required datasets have been produced without errors before a job is run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model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an abstract interface for working with datasets. It provides an object-oriented interface for working with dataset content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0000"/>
                </a:solidFill>
                <a:latin typeface="Arial"/>
              </a:rPr>
              <a:t>The </a:t>
            </a:r>
            <a:r>
              <a:rPr b="1" i="1" lang="en-US" sz="1800" spc="-1" strike="noStrike">
                <a:solidFill>
                  <a:srgbClr val="990033"/>
                </a:solidFill>
                <a:latin typeface="Arial"/>
              </a:rPr>
              <a:t>web interface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 provides support for interacting with a Galaxy instance through a web browser. It generates web-based interfaces to the toolbox (for browsing and choosing tools), individual tools (building forms to accept and validate user input to a tool), and the model (allowing the user to work with all of the datasets they have produced)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9E6AB-FBCA-41B0-B357-39910215C8B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922320" y="914400"/>
            <a:ext cx="7078680" cy="530856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laxy Workflow User</a:t>
            </a:r>
            <a:r>
              <a:rPr b="1" lang="en-US" sz="2000" spc="-1" strike="noStrike">
                <a:solidFill>
                  <a:srgbClr val="4824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Interface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E9E22-D494-47FA-A8CA-807538957025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URDA Grid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51920" y="837720"/>
            <a:ext cx="48006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Resour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compute clusters, storage and scientific instruments. Nearly 6000 cpus (~ 70TF of compute power) and about 17TB of storage has been aggregated on Garu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102837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Network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: The National Knowledge Network (NKN) backbone, a Pan-Indian communication fabric to provide seamless and high-speed access to resources. NKN is an initiative by the Ministry of Information Technology, Government of India, to provide ultra high speed connectivity across the entire country. Academic institutes and R&amp;D organizations can leverage this network for their applications. NKN currently supports 1Gbps and shall scale upto 10Gbps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201"/>
              </a:spcBef>
              <a:spcAft>
                <a:spcPts val="201"/>
              </a:spcAft>
              <a:buSzPct val="205927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ARUDA Grid </a:t>
            </a:r>
            <a:r>
              <a:rPr b="1" lang="en-US" sz="1600" spc="-1" strike="noStrike">
                <a:solidFill>
                  <a:srgbClr val="990033"/>
                </a:solidFill>
                <a:latin typeface="Times New Roman"/>
              </a:rPr>
              <a:t>middleware stack, tools and services</a:t>
            </a: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 which provide an integrated infrastructure to applications and higher-level lay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201"/>
              </a:spcBef>
              <a:spcAft>
                <a:spcPts val="2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5022360" y="1766880"/>
            <a:ext cx="380844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4952880" y="990720"/>
            <a:ext cx="4505400" cy="5029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25818-047E-452B-B5E5-ACA757DCD75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GARUDA Middleware Architecture</a:t>
            </a:r>
            <a:r>
              <a:rPr b="0" lang="en-US" sz="4400" spc="-1" strike="noStrike">
                <a:solidFill>
                  <a:srgbClr val="4824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482400"/>
              </a:solidFill>
              <a:latin typeface="Times New Roman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1"/>
          <a:stretch/>
        </p:blipFill>
        <p:spPr>
          <a:xfrm>
            <a:off x="2362320" y="1600200"/>
            <a:ext cx="4762440" cy="33624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457200" y="251892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 algn="ctr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aryavekshana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457200" y="3230640"/>
            <a:ext cx="1905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torage Resource Manager (G-SR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143000" y="4582440"/>
            <a:ext cx="2057400" cy="9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lobus 4.0.7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w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Torque, Loadlevel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4953240"/>
            <a:ext cx="2209680" cy="111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Compute, Data, Storage, Scientific Instru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Softwar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6248520" y="4495320"/>
            <a:ext cx="190476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 ID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Gridhra debug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238880" y="2590920"/>
            <a:ext cx="1905120" cy="141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Video Coneferencing, Access Gri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Workflow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7238880" y="189828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Port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95880" y="914040"/>
            <a:ext cx="221004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spAutoFit/>
          </a:bodyPr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Bioinformatic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</a:rPr>
              <a:t>Disaster Managem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A17F-C73D-4543-9A7B-00267DFDD8C8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76320" y="-533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5019cb"/>
                </a:solidFill>
                <a:latin typeface="Times New Roman"/>
              </a:rPr>
              <a:t>Python for Galaxy</a:t>
            </a:r>
            <a:endParaRPr b="0" lang="en-US" sz="3200" spc="-1" strike="noStrike">
              <a:solidFill>
                <a:srgbClr val="4824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837720" y="1068120"/>
            <a:ext cx="800100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Galaxy framework is implemented in the Python programming languag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ython is concise and easy to write, it is also a highly structured language that is generally easy to read and understan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onally, Python has a very powerful standard library, as well as a variety of third party open source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80000"/>
              </a:lnSpc>
              <a:spcBef>
                <a:spcPts val="601"/>
              </a:spcBef>
              <a:buSzPct val="13712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 key benefit realized for Galaxy by using Python is that it makes it highly customizable and easily extendabl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CF3F4-B836-48D6-9B9B-68A7193EB3E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25T05:45:38Z</dcterms:created>
  <dc:creator>mangala</dc:creator>
  <dc:description/>
  <dc:language>en-US</dc:language>
  <cp:lastModifiedBy>Karuna Parsad</cp:lastModifiedBy>
  <dcterms:modified xsi:type="dcterms:W3CDTF">2010-12-11T11:35:36Z</dcterms:modified>
  <cp:revision>813</cp:revision>
  <dc:subject/>
  <dc:title>Distributed Genetic Algorithms on Grid for Protein Structure Prediction </dc:title>
</cp:coreProperties>
</file>