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60DA6-8AB1-41B3-9CAE-01A4414BB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60B25-D645-4F23-B893-0E33510B2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2FCBC-27CD-4C8C-96DA-8D03F811A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79085-BCA0-4AB8-A7BB-9354D5D79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48760-853D-41EB-81C8-9A369C64B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57D76-80EB-4C1E-B5A9-7CFD053B4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C70B0-01F5-44A5-AF33-D80051DB9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32D12-3F2F-440A-ABDB-A41AA6DCE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EA098-7801-4767-96EF-2F0080CA1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53A89-66AC-4284-89F2-B12B7B6AA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69434-A0ED-4B07-80BE-8805EF77F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0900F-C797-462B-B086-37979FA63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FDEFC-2861-403C-BC27-694518B7CDB8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Based Denoising of ECG in Pyth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By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Hrishikesh Deshpand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Yogesh Karpat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(A3 Biomed, SINE, IIT Bombay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ing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6840" y="1600200"/>
            <a:ext cx="4543560" cy="11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rd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ft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4786200" y="1714680"/>
            <a:ext cx="3745080" cy="1357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"/>
          <p:cNvPicPr/>
          <p:nvPr/>
        </p:nvPicPr>
        <p:blipFill>
          <a:blip r:embed="rId2"/>
          <a:stretch/>
        </p:blipFill>
        <p:spPr>
          <a:xfrm>
            <a:off x="500040" y="3357720"/>
            <a:ext cx="2571840" cy="24285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"/>
          <p:cNvPicPr/>
          <p:nvPr/>
        </p:nvPicPr>
        <p:blipFill>
          <a:blip r:embed="rId3"/>
          <a:stretch/>
        </p:blipFill>
        <p:spPr>
          <a:xfrm>
            <a:off x="3286080" y="3357720"/>
            <a:ext cx="2571840" cy="24364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"/>
          <p:cNvPicPr/>
          <p:nvPr/>
        </p:nvPicPr>
        <p:blipFill>
          <a:blip r:embed="rId4"/>
          <a:stretch/>
        </p:blipFill>
        <p:spPr>
          <a:xfrm>
            <a:off x="6072120" y="3355920"/>
            <a:ext cx="2500560" cy="2359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"/>
          <p:cNvPicPr/>
          <p:nvPr/>
        </p:nvPicPr>
        <p:blipFill>
          <a:blip r:embed="rId5"/>
          <a:stretch/>
        </p:blipFill>
        <p:spPr>
          <a:xfrm>
            <a:off x="1071720" y="5913360"/>
            <a:ext cx="1357200" cy="2304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"/>
          <p:cNvPicPr/>
          <p:nvPr/>
        </p:nvPicPr>
        <p:blipFill>
          <a:blip r:embed="rId6"/>
          <a:stretch/>
        </p:blipFill>
        <p:spPr>
          <a:xfrm>
            <a:off x="3857760" y="5929200"/>
            <a:ext cx="1571400" cy="2462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"/>
          <p:cNvPicPr/>
          <p:nvPr/>
        </p:nvPicPr>
        <p:blipFill>
          <a:blip r:embed="rId7"/>
          <a:stretch/>
        </p:blipFill>
        <p:spPr>
          <a:xfrm>
            <a:off x="6572160" y="5929200"/>
            <a:ext cx="1543320" cy="1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785880" y="1643040"/>
            <a:ext cx="3440160" cy="26049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2071800" y="4572000"/>
            <a:ext cx="882360" cy="2998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"/>
          <p:cNvPicPr/>
          <p:nvPr/>
        </p:nvPicPr>
        <p:blipFill>
          <a:blip r:embed="rId3"/>
          <a:stretch/>
        </p:blipFill>
        <p:spPr>
          <a:xfrm>
            <a:off x="4572000" y="1643040"/>
            <a:ext cx="3500280" cy="2604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"/>
          <p:cNvPicPr/>
          <p:nvPr/>
        </p:nvPicPr>
        <p:blipFill>
          <a:blip r:embed="rId4"/>
          <a:stretch/>
        </p:blipFill>
        <p:spPr>
          <a:xfrm>
            <a:off x="5622840" y="4545000"/>
            <a:ext cx="1378080" cy="26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3" descr=""/>
          <p:cNvPicPr/>
          <p:nvPr/>
        </p:nvPicPr>
        <p:blipFill>
          <a:blip r:embed="rId1"/>
          <a:stretch/>
        </p:blipFill>
        <p:spPr>
          <a:xfrm>
            <a:off x="500040" y="1433520"/>
            <a:ext cx="4100400" cy="31384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"/>
          <p:cNvPicPr/>
          <p:nvPr/>
        </p:nvPicPr>
        <p:blipFill>
          <a:blip r:embed="rId2"/>
          <a:stretch/>
        </p:blipFill>
        <p:spPr>
          <a:xfrm>
            <a:off x="4643280" y="1428840"/>
            <a:ext cx="4214880" cy="31431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"/>
          <p:cNvPicPr/>
          <p:nvPr/>
        </p:nvPicPr>
        <p:blipFill>
          <a:blip r:embed="rId3"/>
          <a:stretch/>
        </p:blipFill>
        <p:spPr>
          <a:xfrm>
            <a:off x="2143080" y="4719600"/>
            <a:ext cx="676440" cy="2095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"/>
          <p:cNvPicPr/>
          <p:nvPr/>
        </p:nvPicPr>
        <p:blipFill>
          <a:blip r:embed="rId4"/>
          <a:stretch/>
        </p:blipFill>
        <p:spPr>
          <a:xfrm>
            <a:off x="571680" y="4995720"/>
            <a:ext cx="3971880" cy="2192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"/>
          <p:cNvPicPr/>
          <p:nvPr/>
        </p:nvPicPr>
        <p:blipFill>
          <a:blip r:embed="rId5"/>
          <a:stretch/>
        </p:blipFill>
        <p:spPr>
          <a:xfrm>
            <a:off x="714240" y="5300640"/>
            <a:ext cx="3648240" cy="200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"/>
          <p:cNvPicPr/>
          <p:nvPr/>
        </p:nvPicPr>
        <p:blipFill>
          <a:blip r:embed="rId6"/>
          <a:stretch/>
        </p:blipFill>
        <p:spPr>
          <a:xfrm>
            <a:off x="6286680" y="4719600"/>
            <a:ext cx="1009440" cy="2095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2" descr=""/>
          <p:cNvPicPr/>
          <p:nvPr/>
        </p:nvPicPr>
        <p:blipFill>
          <a:blip r:embed="rId7"/>
          <a:stretch/>
        </p:blipFill>
        <p:spPr>
          <a:xfrm>
            <a:off x="4929120" y="5000760"/>
            <a:ext cx="3857760" cy="2188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" descr=""/>
          <p:cNvPicPr/>
          <p:nvPr/>
        </p:nvPicPr>
        <p:blipFill>
          <a:blip r:embed="rId8"/>
          <a:stretch/>
        </p:blipFill>
        <p:spPr>
          <a:xfrm>
            <a:off x="5072040" y="5291280"/>
            <a:ext cx="3562200" cy="2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1785960" y="1214280"/>
            <a:ext cx="5605560" cy="41990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"/>
          <p:cNvPicPr/>
          <p:nvPr/>
        </p:nvPicPr>
        <p:blipFill>
          <a:blip r:embed="rId2"/>
          <a:stretch/>
        </p:blipFill>
        <p:spPr>
          <a:xfrm>
            <a:off x="2857680" y="5643720"/>
            <a:ext cx="3417840" cy="2286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"/>
          <p:cNvPicPr/>
          <p:nvPr/>
        </p:nvPicPr>
        <p:blipFill>
          <a:blip r:embed="rId3"/>
          <a:stretch/>
        </p:blipFill>
        <p:spPr>
          <a:xfrm>
            <a:off x="2786040" y="5929200"/>
            <a:ext cx="3568680" cy="228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"/>
          <p:cNvPicPr/>
          <p:nvPr/>
        </p:nvPicPr>
        <p:blipFill>
          <a:blip r:embed="rId4"/>
          <a:stretch/>
        </p:blipFill>
        <p:spPr>
          <a:xfrm>
            <a:off x="2786040" y="6210360"/>
            <a:ext cx="3571920" cy="21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seline Wandering Remov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4714920" y="1714680"/>
            <a:ext cx="3511440" cy="2654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"/>
          <p:cNvPicPr/>
          <p:nvPr/>
        </p:nvPicPr>
        <p:blipFill>
          <a:blip r:embed="rId2"/>
          <a:stretch/>
        </p:blipFill>
        <p:spPr>
          <a:xfrm>
            <a:off x="928800" y="1714680"/>
            <a:ext cx="3571920" cy="26128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"/>
          <p:cNvPicPr/>
          <p:nvPr/>
        </p:nvPicPr>
        <p:blipFill>
          <a:blip r:embed="rId3"/>
          <a:stretch/>
        </p:blipFill>
        <p:spPr>
          <a:xfrm>
            <a:off x="3071880" y="5214960"/>
            <a:ext cx="2774880" cy="2142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"/>
          <p:cNvPicPr/>
          <p:nvPr/>
        </p:nvPicPr>
        <p:blipFill>
          <a:blip r:embed="rId4"/>
          <a:stretch/>
        </p:blipFill>
        <p:spPr>
          <a:xfrm>
            <a:off x="5072040" y="4640400"/>
            <a:ext cx="2928960" cy="145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"/>
          <p:cNvPicPr/>
          <p:nvPr/>
        </p:nvPicPr>
        <p:blipFill>
          <a:blip r:embed="rId5"/>
          <a:stretch/>
        </p:blipFill>
        <p:spPr>
          <a:xfrm>
            <a:off x="5500800" y="4816440"/>
            <a:ext cx="1857240" cy="1843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"/>
          <p:cNvPicPr/>
          <p:nvPr/>
        </p:nvPicPr>
        <p:blipFill>
          <a:blip r:embed="rId6"/>
          <a:stretch/>
        </p:blipFill>
        <p:spPr>
          <a:xfrm>
            <a:off x="2023920" y="4643280"/>
            <a:ext cx="1476360" cy="1810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"/>
          <p:cNvPicPr/>
          <p:nvPr/>
        </p:nvPicPr>
        <p:blipFill>
          <a:blip r:embed="rId7"/>
          <a:stretch/>
        </p:blipFill>
        <p:spPr>
          <a:xfrm>
            <a:off x="1214280" y="4857840"/>
            <a:ext cx="3214800" cy="14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42960" y="1213920"/>
            <a:ext cx="5686560" cy="14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798480" y="2143080"/>
            <a:ext cx="66312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king it open source under GP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velop similar set of wavelet based modules for signal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Extend the approach to image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sentation Out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Wavelet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of Algorithm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lusion and Future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857160" y="2357280"/>
            <a:ext cx="7559640" cy="17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00040" y="1499760"/>
            <a:ext cx="521496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ver 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G is non station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5572080" y="4500720"/>
            <a:ext cx="2835360" cy="2143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"/>
          <p:cNvPicPr/>
          <p:nvPr/>
        </p:nvPicPr>
        <p:blipFill>
          <a:blip r:embed="rId2"/>
          <a:stretch/>
        </p:blipFill>
        <p:spPr>
          <a:xfrm>
            <a:off x="714240" y="2143080"/>
            <a:ext cx="3857760" cy="2071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3"/>
          <a:stretch/>
        </p:blipFill>
        <p:spPr>
          <a:xfrm>
            <a:off x="4929120" y="2143080"/>
            <a:ext cx="3571920" cy="2071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2" name="Object 8"/>
              <p:cNvSpPr txBox="1"/>
              <p:nvPr/>
            </p:nvSpPr>
            <p:spPr>
              <a:xfrm>
                <a:off x="1500120" y="5145120"/>
                <a:ext cx="170028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Object 9"/>
              <p:cNvSpPr txBox="1"/>
              <p:nvPr/>
            </p:nvSpPr>
            <p:spPr>
              <a:xfrm>
                <a:off x="1571760" y="5668920"/>
                <a:ext cx="150012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571320" y="1071360"/>
            <a:ext cx="4971960" cy="5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velet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1714680" y="1857240"/>
            <a:ext cx="5286240" cy="3230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2"/>
          <a:stretch/>
        </p:blipFill>
        <p:spPr>
          <a:xfrm>
            <a:off x="928800" y="5329080"/>
            <a:ext cx="39146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 in Denois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thematical Mode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3"/>
              <p:cNvSpPr txBox="1"/>
              <p:nvPr/>
            </p:nvSpPr>
            <p:spPr>
              <a:xfrm>
                <a:off x="785880" y="4143240"/>
                <a:ext cx="150012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s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sSup>
                              <m:e/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1</m:t>
                                </m:r>
                              </m:sup>
                            </m:sSup>
                          </m:sup>
                        </m:sSup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Object 4"/>
              <p:cNvSpPr txBox="1"/>
              <p:nvPr/>
            </p:nvSpPr>
            <p:spPr>
              <a:xfrm>
                <a:off x="2643120" y="2143080"/>
                <a:ext cx="287496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f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σ</m:t>
                    </m:r>
                    <m:r>
                      <m:rPr>
                        <m:lit/>
                        <m:nor/>
                      </m:rPr>
                      <m:t xml:space="preserve"> e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5"/>
              <p:cNvSpPr txBox="1"/>
              <p:nvPr/>
            </p:nvSpPr>
            <p:spPr>
              <a:xfrm>
                <a:off x="785880" y="3000240"/>
                <a:ext cx="143820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y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W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Object 6"/>
              <p:cNvSpPr txBox="1"/>
              <p:nvPr/>
            </p:nvSpPr>
            <p:spPr>
              <a:xfrm>
                <a:off x="785880" y="3643200"/>
                <a:ext cx="171432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Z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D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y,</m:t>
                    </m:r>
                    <m:r>
                      <m:t xml:space="preserve">λ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lgorithm Implemen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HIGH FREQUENCY NOIS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Nois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tstr, sorh, scal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LOW FREQUENCY NOISE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Baseline 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Calcu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Global threshold calculation and Level dependent threshold calcul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median estimator” as an estimate of nois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reshold selection rul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qtwolog, minimaxi, rigrsur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heurs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Object 3"/>
              <p:cNvSpPr txBox="1"/>
              <p:nvPr/>
            </p:nvSpPr>
            <p:spPr>
              <a:xfrm>
                <a:off x="3286080" y="3500280"/>
                <a:ext cx="198108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edian</m:t>
                            </m:r>
                            <m:r>
                              <m:t xml:space="preserve">(</m:t>
                            </m:r>
                            <m:r>
                              <m:t xml:space="preserve">|</m:t>
                            </m:r>
                            <m:r>
                              <m:t xml:space="preserve">d</m:t>
                            </m:r>
                            <m:r>
                              <m:t xml:space="preserve">|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745</m:t>
                            </m:r>
                          </m:den>
                        </m:f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Rescal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1600200"/>
            <a:ext cx="4543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one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basic model with </a:t>
            </a: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=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s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caling of    using thresholding criete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m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multiplicative threshold rescal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4929120" y="1428840"/>
            <a:ext cx="3903840" cy="4786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1" name="Object 5"/>
              <p:cNvSpPr txBox="1"/>
              <p:nvPr/>
            </p:nvSpPr>
            <p:spPr>
              <a:xfrm>
                <a:off x="1990800" y="2714760"/>
                <a:ext cx="15228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2T11:01:55Z</dcterms:created>
  <dc:creator>HRISHI</dc:creator>
  <dc:description/>
  <dc:language>en-US</dc:language>
  <cp:lastModifiedBy>HRISHI</cp:lastModifiedBy>
  <dcterms:modified xsi:type="dcterms:W3CDTF">2010-12-14T09:04:45Z</dcterms:modified>
  <cp:revision>67</cp:revision>
  <dc:subject/>
  <dc:title>Wavelet Based Denoising of ECG in Python</dc:title>
</cp:coreProperties>
</file>